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20.wmf" ContentType="image/x-wmf"/>
  <Override PartName="/ppt/media/image19.wmf" ContentType="image/x-wmf"/>
  <Override PartName="/ppt/media/image18.png" ContentType="image/png"/>
  <Override PartName="/ppt/media/image14.jpeg" ContentType="image/jpeg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29E9-8E0B-43C4-ACC6-C1E63919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BE71-350A-4FE8-9015-7FBE830D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B9A7-8455-4013-A38D-08D0AB07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B00B-2EC9-433A-AEB1-9891F2A9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BDDD-08D2-4422-B350-B8F27027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70F1-D665-4658-A376-F9FA4359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9745-F603-49F9-A8D8-6DB0BA32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22D5-5BE2-4753-8719-73B748CE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2070-B860-4834-B6C1-119F8FA5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4B46-49EC-456F-A0D6-7448A011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5E2F-E3C5-4542-B5C6-2F09A2EB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BD97-B490-4B3E-BDD3-D15E6648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8C50-F16B-4F1F-9296-95E11FE8C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roadway"/>
              </a:rPr>
              <a:t>¡Mi Casa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Stout"/>
              </a:rPr>
              <a:t>By Ciara Tomlin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ique Olive Compact"/>
              </a:rPr>
              <a:t>Aquí estí mi casa</a:t>
            </a:r>
            <a:r>
              <a:rPr b="0" lang="en-US" sz="4400" spc="-1" strike="noStrike">
                <a:solidFill>
                  <a:srgbClr val="000000"/>
                </a:solidFill>
                <a:latin typeface="Curlz MT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casa  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n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 un casa me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 gusta mi c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 catorce cuartos en mi c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51944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mi cua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 cuarto es </a:t>
            </a: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ros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 gusta jugar, descansarme, y dormir en mi cua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2362320" cy="1763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238880" y="1905120"/>
            <a:ext cx="1219320" cy="1147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 rot="21205200">
            <a:off x="1143000" y="4114800"/>
            <a:ext cx="141120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ba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 baño es </a:t>
            </a: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na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ene un frigadero blanco y as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 gusta me cepillo los dientes estí mi ba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2438640" cy="1831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 rot="865200">
            <a:off x="6705360" y="3962160"/>
            <a:ext cx="1600200" cy="1474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600200" y="4876920"/>
            <a:ext cx="1905120" cy="1404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 rot="1062600">
            <a:off x="6543360" y="340920"/>
            <a:ext cx="12193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coc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 cocina 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n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Tiene de grani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 gusta cocinar estí mi coc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419720" y="1752480"/>
            <a:ext cx="2666880" cy="2003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705720" y="990720"/>
            <a:ext cx="1600200" cy="1782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 rot="1227600">
            <a:off x="1676160" y="4114440"/>
            <a:ext cx="1307880" cy="181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 rot="21061200">
            <a:off x="7010280" y="4343040"/>
            <a:ext cx="11797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come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comedor e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zul mar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ue rara vez se come aqu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 gusta comer aqui durante de las fie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2514600" cy="1887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 rot="21295200">
            <a:off x="2743200" y="4723920"/>
            <a:ext cx="1817640" cy="1650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7467480" y="152388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s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 sala es </a:t>
            </a: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bie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uestra televisión y el ordenador está aqu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 gusta descansarme estí mi s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2590560" cy="1944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7086600" y="3049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752480" y="4495680"/>
            <a:ext cx="1729080" cy="1881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 rot="946200">
            <a:off x="6248520" y="4191120"/>
            <a:ext cx="228600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13:02:47Z</dcterms:created>
  <dc:creator>tomlinsoncia</dc:creator>
  <dc:description/>
  <dc:language>en-US</dc:language>
  <cp:lastModifiedBy>tomlinsoncia</cp:lastModifiedBy>
  <dcterms:modified xsi:type="dcterms:W3CDTF">2012-04-25T15:56:11Z</dcterms:modified>
  <cp:revision>6</cp:revision>
  <dc:subject/>
  <dc:title>¡Mi Casa!</dc:title>
</cp:coreProperties>
</file>